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7A1-8381-496C-973D-F0266007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8AE-042C-4DCC-A75A-8F69171A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EBB-FD31-4A02-81FB-407E5E3D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EB1-80B3-4414-9F28-0104714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2F-DB94-4765-8F9A-1076761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45C-B13C-446E-9F3E-EA94E56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2A7-8A13-4B2D-9FD1-4B439B20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2B3-E01F-48E5-BD4F-73F4061C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E43-2CC1-4EBE-B7BC-0BF1E5C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829-FE5F-445B-9FE3-C771DA4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8F3-509C-4C7E-8C1A-A480A3E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0AC-D4CE-4F85-AF4E-55A1A5F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2907-5111-4C1B-8A23-4CED6FA8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epa.newschool.edu/het/schools/mercant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8.jpeg"/><Relationship Id="rId4" Type="http://schemas.openxmlformats.org/officeDocument/2006/relationships/image" Target="../media/image26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pLouisXIVAquisitions1668-97p535"/>
          <p:cNvPicPr/>
          <p:nvPr/>
        </p:nvPicPr>
        <p:blipFill>
          <a:blip r:embed="rId1"/>
          <a:stretch/>
        </p:blipFill>
        <p:spPr>
          <a:xfrm>
            <a:off x="1828800" y="228600"/>
            <a:ext cx="6076800" cy="586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23623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 expands its’ borders- Many of these areas will lead to disputes until WWII - Especially the area known 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295280" y="304776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 K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43-1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Versailles- (Where is i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s were all forced to live at Versa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d Army- Largest army in Europe, 400,000!!!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ght several Wars- Other European nations allied w/one another to fend Louis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borders of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ted Mercantilism (see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D THE EDICT OF NAN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Henry IV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Kings wanted to emulate Louis- Era of the Divine Right of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te rituals surrounded Louis court at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flowed from the Treasury, beginning a century of financial problems for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uis14aftrigaud_1638-1715lrg36k"/>
          <p:cNvPicPr/>
          <p:nvPr/>
        </p:nvPicPr>
        <p:blipFill>
          <a:blip r:embed="rId1"/>
          <a:stretch/>
        </p:blipFill>
        <p:spPr>
          <a:xfrm>
            <a:off x="155520" y="46080"/>
            <a:ext cx="2657520" cy="420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cueil250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3049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t c’est Mo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0" y="4648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youth he escaped near death in Paris- he never liked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5667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Charles II and James II of England- secretly sought to restore Catholicism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nal Mazar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powerful church official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it educated in R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mid 1600s, were largely due to mistakes by Maz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zarin was primarily interested in extending French power over Europe- which Louis XIV would later accomp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ZARIN"/>
          <p:cNvPicPr/>
          <p:nvPr/>
        </p:nvPicPr>
        <p:blipFill>
          <a:blip r:embed="rId1"/>
          <a:stretch/>
        </p:blipFill>
        <p:spPr>
          <a:xfrm>
            <a:off x="838080" y="0"/>
            <a:ext cx="1870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an Colb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e Min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ôleur généra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oughly, minister of finance) under King Louis XIV of France.  Kept financi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rcanti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trine that the expansion of commerce (and the maintenance of a favorable balance of trade) was the key to State w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he movement of goods and labor between regions of France remained in pla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bert recognized the need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internal transportation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only because it was necessary to connect the ports to French import-export indus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lbert2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rcantilism- An Econo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only so much wealth in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ime another country gains wealth it means that my country becomes po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fore its necessary to keep a posi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Exports-Im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sold from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brought into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re taxes on trade.  By having high tariffs on imports a country can reduce the number of imports it has and then have a positive Balance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nite Wor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economics and wealth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ero sum Ga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Trade Theory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RANCE IN THE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de is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other country can make something cheaper, consumers in the importing country get a better good at a cheaper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country should specialize in those types of goods that we make better and cheaper.  Those goods and services will be our Ex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gative trade balance is not necessarily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 promotes cooperation and interdependence which means less conflict (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ie (Wealth in the World) is not limited (finite).  A vibrant economy often devises new and innovative methods to mak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5020560"/>
            <a:ext cx="6248160" cy="128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is the US Trade Balance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is our biggest trading part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negative trade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positive trade bal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Balazs’ summer house? No this is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versail"/>
          <p:cNvPicPr/>
          <p:nvPr/>
        </p:nvPicPr>
        <p:blipFill>
          <a:blip r:embed="rId1"/>
          <a:stretch/>
        </p:blipFill>
        <p:spPr>
          <a:xfrm>
            <a:off x="914400" y="160020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nice Room at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Treaty’s were signed at Versai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ersailles"/>
          <p:cNvPicPr/>
          <p:nvPr/>
        </p:nvPicPr>
        <p:blipFill>
          <a:blip r:embed="rId1"/>
          <a:stretch/>
        </p:blipFill>
        <p:spPr>
          <a:xfrm>
            <a:off x="1371600" y="2895480"/>
            <a:ext cx="5324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versailles"/>
          <p:cNvPicPr/>
          <p:nvPr/>
        </p:nvPicPr>
        <p:blipFill>
          <a:blip r:embed="rId1"/>
          <a:stretch/>
        </p:blipFill>
        <p:spPr>
          <a:xfrm>
            <a:off x="762120" y="1143000"/>
            <a:ext cx="7677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4952520"/>
            <a:ext cx="259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s of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ersailles-1994b"/>
          <p:cNvPicPr/>
          <p:nvPr/>
        </p:nvPicPr>
        <p:blipFill>
          <a:blip r:embed="rId1"/>
          <a:stretch/>
        </p:blipFill>
        <p:spPr>
          <a:xfrm>
            <a:off x="0" y="0"/>
            <a:ext cx="4191120" cy="27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0th%20b'day%20Versailles%20gardens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3514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rance%20-%20Versailles%20Fountains"/>
          <p:cNvPicPr/>
          <p:nvPr/>
        </p:nvPicPr>
        <p:blipFill>
          <a:blip r:embed="rId3"/>
          <a:stretch/>
        </p:blipFill>
        <p:spPr>
          <a:xfrm>
            <a:off x="609480" y="3276720"/>
            <a:ext cx="46483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ailles – Hall of 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24bg"/>
          <p:cNvPicPr/>
          <p:nvPr/>
        </p:nvPicPr>
        <p:blipFill>
          <a:blip r:embed="rId1"/>
          <a:stretch/>
        </p:blipFill>
        <p:spPr>
          <a:xfrm>
            <a:off x="838080" y="17524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1508040"/>
            <a:ext cx="4876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of F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d F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47-1559 (died unexpectedly after a jousting tourna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30254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War BTW France/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50 years following Henry II’s death, France will be locked in religious struggles and a simmering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50px-Henri2-1"/>
          <p:cNvPicPr/>
          <p:nvPr/>
        </p:nvPicPr>
        <p:blipFill>
          <a:blip r:embed="rId1"/>
          <a:stretch/>
        </p:blipFill>
        <p:spPr>
          <a:xfrm>
            <a:off x="0" y="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Kings Tried to Build Their Ow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hof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the Gr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ul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e built Peterhof after visiting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eterhof"/>
          <p:cNvPicPr/>
          <p:nvPr/>
        </p:nvPicPr>
        <p:blipFill>
          <a:blip r:embed="rId1"/>
          <a:stretch/>
        </p:blipFill>
        <p:spPr>
          <a:xfrm>
            <a:off x="2438280" y="1523880"/>
            <a:ext cx="65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Versailles “cop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enbrunn, located in Vienna, Austria, built by the Hapsburg’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6-1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7130330"/>
          <p:cNvPicPr/>
          <p:nvPr/>
        </p:nvPicPr>
        <p:blipFill>
          <a:blip r:embed="rId1"/>
          <a:stretch/>
        </p:blipFill>
        <p:spPr>
          <a:xfrm>
            <a:off x="30481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001305B"/>
          <p:cNvPicPr/>
          <p:nvPr/>
        </p:nvPicPr>
        <p:blipFill>
          <a:blip r:embed="rId2"/>
          <a:stretch/>
        </p:blipFill>
        <p:spPr>
          <a:xfrm>
            <a:off x="155520" y="460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Yet anoth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nsso3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ans_souci_potsdam2"/>
          <p:cNvPicPr/>
          <p:nvPr/>
        </p:nvPicPr>
        <p:blipFill>
          <a:blip r:embed="rId2"/>
          <a:stretch/>
        </p:blipFill>
        <p:spPr>
          <a:xfrm>
            <a:off x="0" y="0"/>
            <a:ext cx="31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palais1h"/>
          <p:cNvPicPr/>
          <p:nvPr/>
        </p:nvPicPr>
        <p:blipFill>
          <a:blip r:embed="rId3"/>
          <a:stretch/>
        </p:blipFill>
        <p:spPr>
          <a:xfrm>
            <a:off x="3362400" y="2209680"/>
            <a:ext cx="57816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304920" y="2666880"/>
            <a:ext cx="2759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ans Souci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pprox. 1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Potsdam (outside of Berlin)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rdens are approximately the same size as Central Park NYC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905120" y="6248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914400" y="6172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all these Kings, Queens and Emperors have in common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AY JUST ONE 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702 BY A DUKE AND SOLD TO GEORGE III IN 17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uckingham%20palace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uckingham%20Palace%20(MZ)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267080" y="914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where this is located. Hint it’s not D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similar to all these Pala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and Design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re these Palaces different from cas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oque- how did the palaces reflect the Baroque period of 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sage to the People and Nobl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 residence reflect its’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ansso3"/>
          <p:cNvPicPr/>
          <p:nvPr/>
        </p:nvPicPr>
        <p:blipFill>
          <a:blip r:embed="rId1"/>
          <a:stretch/>
        </p:blipFill>
        <p:spPr>
          <a:xfrm>
            <a:off x="0" y="50482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T001305B"/>
          <p:cNvPicPr/>
          <p:nvPr/>
        </p:nvPicPr>
        <p:blipFill>
          <a:blip r:embed="rId2"/>
          <a:stretch/>
        </p:blipFill>
        <p:spPr>
          <a:xfrm>
            <a:off x="7086600" y="228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terhof"/>
          <p:cNvPicPr/>
          <p:nvPr/>
        </p:nvPicPr>
        <p:blipFill>
          <a:blip r:embed="rId3"/>
          <a:stretch/>
        </p:blipFill>
        <p:spPr>
          <a:xfrm>
            <a:off x="65530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uckingham%20palace"/>
          <p:cNvPicPr/>
          <p:nvPr/>
        </p:nvPicPr>
        <p:blipFill>
          <a:blip r:embed="rId4"/>
          <a:stretch/>
        </p:blipFill>
        <p:spPr>
          <a:xfrm>
            <a:off x="0" y="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9"/>
          <p:cNvSpPr txBox="1"/>
          <p:nvPr/>
        </p:nvSpPr>
        <p:spPr>
          <a:xfrm>
            <a:off x="990720" y="914400"/>
            <a:ext cx="1400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48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f the Spanish Succ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0" y="26665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versus- Everyone in Pink (Grand Alli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KISH_17_398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410080" y="4419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 Feared a Unified Spanish-French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Louis XIV’s grandson, Philip V was next in line to become King of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western_europe_utrecht_treaty"/>
          <p:cNvPicPr/>
          <p:nvPr/>
        </p:nvPicPr>
        <p:blipFill>
          <a:blip r:embed="rId1"/>
          <a:stretch/>
        </p:blipFill>
        <p:spPr>
          <a:xfrm>
            <a:off x="2733840" y="17431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0" y="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713, in the Netherlands.  The treaty ENDED the European War of the Spanish Succession.  Limited French Power- through Balance of Power (Alli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s of Extravagance- Wars and Keeping up the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forb007"/>
          <p:cNvPicPr/>
          <p:nvPr/>
        </p:nvPicPr>
        <p:blipFill>
          <a:blip r:embed="rId1"/>
          <a:stretch/>
        </p:blipFill>
        <p:spPr>
          <a:xfrm>
            <a:off x="685800" y="137160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696080" y="1295280"/>
            <a:ext cx="144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 are Expensive- The Iraq War has already cost $600 Billion and some experts believe it will rise to $1Trillion!!!, or $3300 per each person living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e Descar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 and Mathematici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think - therefore I 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ther sayings by Desc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seeker after truth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necessary that at least once in your life you doubt, as far as possible, all th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ding of all good books is indeed like a conversation with the noblest men of past centuries who were the authors of them, nay a carefully studied conversation, in which they reveal to us none but the best of their though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 our own thoughts, there is nothing absolutely in our powe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timist may see a light where there is none, but why must the pessimist always run to blow it ou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nough to have a good mind; the main thing is to use it wel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t is not in our power to follow what is true, we ought to follow what is most probabl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escartes%20drawing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escartes"/>
          <p:cNvPicPr/>
          <p:nvPr/>
        </p:nvPicPr>
        <p:blipFill>
          <a:blip r:embed="rId2"/>
          <a:stretch/>
        </p:blipFill>
        <p:spPr>
          <a:xfrm>
            <a:off x="0" y="0"/>
            <a:ext cx="1571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rabelais"/>
          <p:cNvPicPr/>
          <p:nvPr/>
        </p:nvPicPr>
        <p:blipFill>
          <a:blip r:embed="rId1"/>
          <a:stretch/>
        </p:blipFill>
        <p:spPr>
          <a:xfrm>
            <a:off x="3962520" y="0"/>
            <a:ext cx="12427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ontaigne"/>
          <p:cNvPicPr/>
          <p:nvPr/>
        </p:nvPicPr>
        <p:blipFill>
          <a:blip r:embed="rId2"/>
          <a:stretch/>
        </p:blipFill>
        <p:spPr>
          <a:xfrm>
            <a:off x="228600" y="762120"/>
            <a:ext cx="1905120" cy="219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2895480"/>
            <a:ext cx="2971800" cy="312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aigne (1533-1592)  French courtier and author of ESSAIS (1572-80, 1588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ssay, a short piece that discusses the author's personal thoughts about a particular su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moliere"/>
          <p:cNvPicPr/>
          <p:nvPr/>
        </p:nvPicPr>
        <p:blipFill>
          <a:blip r:embed="rId3"/>
          <a:stretch/>
        </p:blipFill>
        <p:spPr>
          <a:xfrm>
            <a:off x="7086600" y="304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7467480" y="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029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00800" y="2362320"/>
            <a:ext cx="2743200" cy="39459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actor and playwright, the greatest of all writers of French come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ère's masterpi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attack hypocrisy and vice, he created characters that have become immortal types, such as the hypochondriac, the hypocrite, the miser, the misanth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00400" y="1905120"/>
            <a:ext cx="2819520" cy="4415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nch Renaissance writer, a Franciscan monk, humanist, and physici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ic novel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argantu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ntagru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Rabelais' heroes are rude but funny giants traveling in a world full of greed, stupidity, violence, and grotesque jok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 books were banned by the Catholic Church and later placed on The Index librorum prohibitorumon (the Index of Forbidden Books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57909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de Med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9907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very ni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ous Medici family of Flo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married into French R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atherinemedici2"/>
          <p:cNvPicPr/>
          <p:nvPr/>
        </p:nvPicPr>
        <p:blipFill>
          <a:blip r:embed="rId1"/>
          <a:stretch/>
        </p:blipFill>
        <p:spPr>
          <a:xfrm>
            <a:off x="0" y="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1523520" y="1219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4267080"/>
            <a:ext cx="7620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, Charles IX and Henry III, both became King but she was the Power behind the Throne- Weak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St. Bartholomew’s Massac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eventually become of France at the end of the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(1700s)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of 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in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9246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- By Henry II’s death in 1559, 16%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France feared the rise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4, 1572, 1000s of Huguenots were killed in the St. Bartholomew’s Massacre (they were in Paris to celebrate Henry of Navarre’s marriage to Catherine de Medici’s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egour1"/>
          <p:cNvPicPr/>
          <p:nvPr/>
        </p:nvPicPr>
        <p:blipFill>
          <a:blip r:embed="rId1"/>
          <a:stretch/>
        </p:blipFill>
        <p:spPr>
          <a:xfrm>
            <a:off x="155520" y="46080"/>
            <a:ext cx="2676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Guise (Family)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to the throne of F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ly Catholic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, Mary Stuart (Scotla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t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ain raised suspicion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ou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of Bourbon (Family) also vying for Thr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III of Navarre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IV of F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e of Henry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urbon king of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ce Intrigue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of Navarre, who was a Huguenot, married Catherine de Medici’s daughter on August 24, 1572 (YES!!! St. Bartholomew’s Day)…how did Catherine celebrate her daughter’s hand in marriage- by slaughtering Huguenots.  The marriage was arranged, so Catherine wasn’t upset about the marriage, but she did know that 1000s of Huguenots would come to the wedding, so it would be a great opportunity to kill a lot (remember she was not a nice person).  Henry, himself, had to convert to Catholicism to avoid deat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rleans"/>
          <p:cNvPicPr/>
          <p:nvPr/>
        </p:nvPicPr>
        <p:blipFill>
          <a:blip r:embed="rId1"/>
          <a:stretch/>
        </p:blipFill>
        <p:spPr>
          <a:xfrm>
            <a:off x="7826400" y="0"/>
            <a:ext cx="13176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rleans"/>
          <p:cNvPicPr/>
          <p:nvPr/>
        </p:nvPicPr>
        <p:blipFill>
          <a:blip r:embed="rId2"/>
          <a:stretch/>
        </p:blipFill>
        <p:spPr>
          <a:xfrm>
            <a:off x="0" y="0"/>
            <a:ext cx="131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1480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41640" y="99036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se to Throne after Henry III died (no heir)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was a whole new family!!!- House of Bou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stant, TWICE he changed religions and became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ct of 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ism is the official religion of France but Protestantism is tol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- No Protestant services in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ed chicken dinners once a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ssinated in 1610- His son, Louis XIII become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enry4"/>
          <p:cNvPicPr/>
          <p:nvPr/>
        </p:nvPicPr>
        <p:blipFill>
          <a:blip r:embed="rId1"/>
          <a:stretch/>
        </p:blipFill>
        <p:spPr>
          <a:xfrm>
            <a:off x="0" y="838080"/>
            <a:ext cx="3819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2160" y="12193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V’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9 when he became King, ruled 1610-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ed on his behalf until he became an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nal Richelieu dominated the 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K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Cardinal Richelieu, future French Kings would dominate the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louis13france2"/>
          <p:cNvPicPr/>
          <p:nvPr/>
        </p:nvPicPr>
        <p:blipFill>
          <a:blip r:embed="rId1"/>
          <a:stretch/>
        </p:blipFill>
        <p:spPr>
          <a:xfrm>
            <a:off x="155520" y="46080"/>
            <a:ext cx="3562560" cy="528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601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uler is too young to Rule, the person acting on his/her behalf is called a Re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880" y="201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al Richelieu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880" y="1353600"/>
            <a:ext cx="5105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during the Reign of Louis XIII (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- persecuted Hugeo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y- supported Protestants!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to Diminish the Power of the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civil service (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d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collect taxes, empowering the King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richeli"/>
          <p:cNvPicPr/>
          <p:nvPr/>
        </p:nvPicPr>
        <p:blipFill>
          <a:blip r:embed="rId1"/>
          <a:stretch/>
        </p:blipFill>
        <p:spPr>
          <a:xfrm>
            <a:off x="0" y="0"/>
            <a:ext cx="3533760" cy="5114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5800" y="58672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a Church Official gain so much Governmental Power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title Cardinal is only granted by the Po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13:43Z</dcterms:created>
  <dc:creator>Darien Public Schools</dc:creator>
  <dc:description/>
  <dc:language>en-US</dc:language>
  <cp:lastModifiedBy>Administrator</cp:lastModifiedBy>
  <dcterms:modified xsi:type="dcterms:W3CDTF">2016-03-14T14:18:18Z</dcterms:modified>
  <cp:revision>21</cp:revision>
  <dc:subject/>
  <dc:title>Henry II of France</dc:title>
</cp:coreProperties>
</file>